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AFD-A5E3-4345-820F-CD793D290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31E3-47A5-4638-B102-6A293BE85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F10-DA26-4B8E-8A61-2F59F254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438-1923-4CDF-9BF1-847FEA5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3D1-02A9-4387-B251-D42952D7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7D7-1CD0-4BE1-8368-C50D3ACB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4C6-970C-4852-BCC9-6C59A5EC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BDC-41DD-49F2-9975-8AEDCD5D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90B-AEF4-4442-B1BD-44AFA46C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C6A-A94A-4675-AEBE-FC3ACB4A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AAD-351D-4985-9DC7-3BE9CFB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DBF-6EE9-4AFF-A13A-66298347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500-3867-4D56-B739-373BFF45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066-709A-4A1B-BD4F-846D24FC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5958-9EA5-4FC3-8AE6-A9E527CD1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Shauna J\Local Settings\Temporary Internet Files\Content.IE5\1JIQ71KN\MCj0397626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pumpkin title.jpg"/>
          <p:cNvPicPr/>
          <p:nvPr/>
        </p:nvPicPr>
        <p:blipFill>
          <a:blip r:embed="rId2"/>
          <a:stretch/>
        </p:blipFill>
        <p:spPr>
          <a:xfrm>
            <a:off x="1828800" y="2438280"/>
            <a:ext cx="5715000" cy="94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glyph title.jpg"/>
          <p:cNvPicPr/>
          <p:nvPr/>
        </p:nvPicPr>
        <p:blipFill>
          <a:blip r:embed="rId3"/>
          <a:stretch/>
        </p:blipFill>
        <p:spPr>
          <a:xfrm>
            <a:off x="2743200" y="3886200"/>
            <a:ext cx="4051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My age is an even / odd numb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1981080"/>
          <a:ext cx="6858000" cy="1859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mpkin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ll 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rt and 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5" descr="pumpkin.gif"/>
          <p:cNvPicPr/>
          <p:nvPr/>
        </p:nvPicPr>
        <p:blipFill>
          <a:blip r:embed="rId1"/>
          <a:stretch/>
        </p:blipFill>
        <p:spPr>
          <a:xfrm>
            <a:off x="3352680" y="4191120"/>
            <a:ext cx="26290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Do you like Hallowe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600200"/>
          <a:ext cx="6629400" cy="1955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</a:tblGrid>
              <a:tr h="8870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r of Ste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e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row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4" descr="pum1.gif"/>
          <p:cNvPicPr/>
          <p:nvPr/>
        </p:nvPicPr>
        <p:blipFill>
          <a:blip r:embed="rId1"/>
          <a:stretch/>
        </p:blipFill>
        <p:spPr>
          <a:xfrm>
            <a:off x="3557520" y="4495680"/>
            <a:ext cx="23097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What is your favorite fall tr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09480" y="1397160"/>
          <a:ext cx="7848720" cy="2717640"/>
        </p:xfrm>
        <a:graphic>
          <a:graphicData uri="http://schemas.openxmlformats.org/drawingml/2006/table">
            <a:tbl>
              <a:tblPr/>
              <a:tblGrid>
                <a:gridCol w="2057400"/>
                <a:gridCol w="1524240"/>
                <a:gridCol w="1447560"/>
                <a:gridCol w="1447920"/>
                <a:gridCol w="1371600"/>
              </a:tblGrid>
              <a:tr h="13586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ape of E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amel Ap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pcorn B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ndy Co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59" name="Isosceles Triangle 4"/>
          <p:cNvSpPr/>
          <p:nvPr/>
        </p:nvSpPr>
        <p:spPr>
          <a:xfrm>
            <a:off x="3124080" y="3124080"/>
            <a:ext cx="609840" cy="533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Isosceles Triangle 5"/>
          <p:cNvSpPr/>
          <p:nvPr/>
        </p:nvSpPr>
        <p:spPr>
          <a:xfrm rot="10800000">
            <a:off x="6095880" y="3200400"/>
            <a:ext cx="609840" cy="5335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4648320" y="3124080"/>
            <a:ext cx="609480" cy="60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620120" y="320040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candycornborder.gif"/>
          <p:cNvPicPr/>
          <p:nvPr/>
        </p:nvPicPr>
        <p:blipFill>
          <a:blip r:embed="rId1"/>
          <a:stretch/>
        </p:blipFill>
        <p:spPr>
          <a:xfrm>
            <a:off x="2057400" y="5638680"/>
            <a:ext cx="53132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My costume will be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1295280"/>
          <a:ext cx="7848720" cy="2913120"/>
        </p:xfrm>
        <a:graphic>
          <a:graphicData uri="http://schemas.openxmlformats.org/drawingml/2006/table">
            <a:tbl>
              <a:tblPr/>
              <a:tblGrid>
                <a:gridCol w="2057400"/>
                <a:gridCol w="1524240"/>
                <a:gridCol w="1447560"/>
                <a:gridCol w="1447920"/>
                <a:gridCol w="1371600"/>
              </a:tblGrid>
              <a:tr h="1554840">
                <a:tc rowSpan="2"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ape of N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racter from a movie or boo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 Cost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6" name="5-Point Star 4"/>
          <p:cNvSpPr/>
          <p:nvPr/>
        </p:nvSpPr>
        <p:spPr>
          <a:xfrm>
            <a:off x="4572000" y="320040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Hexagon 5"/>
          <p:cNvSpPr/>
          <p:nvPr/>
        </p:nvSpPr>
        <p:spPr>
          <a:xfrm>
            <a:off x="3124080" y="3276720"/>
            <a:ext cx="685800" cy="60948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Isosceles Triangle 7"/>
          <p:cNvSpPr/>
          <p:nvPr/>
        </p:nvSpPr>
        <p:spPr>
          <a:xfrm>
            <a:off x="7543800" y="327672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iamond 8"/>
          <p:cNvSpPr/>
          <p:nvPr/>
        </p:nvSpPr>
        <p:spPr>
          <a:xfrm>
            <a:off x="6095880" y="3200400"/>
            <a:ext cx="685800" cy="76212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tricktreat2.gif"/>
          <p:cNvPicPr/>
          <p:nvPr/>
        </p:nvPicPr>
        <p:blipFill>
          <a:blip r:embed="rId1"/>
          <a:stretch/>
        </p:blipFill>
        <p:spPr>
          <a:xfrm>
            <a:off x="3200400" y="4416480"/>
            <a:ext cx="28195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Do you like pumpkin pi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43000" y="1397160"/>
          <a:ext cx="6934320" cy="218412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760"/>
              </a:tblGrid>
              <a:tr h="10918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t 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9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73" name="Moon 8"/>
          <p:cNvSpPr/>
          <p:nvPr/>
        </p:nvSpPr>
        <p:spPr>
          <a:xfrm rot="16200000">
            <a:off x="3551040" y="2795400"/>
            <a:ext cx="3808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75" y="1283"/>
                  <a:pt x="7149" y="5080"/>
                  <a:pt x="7149" y="10800"/>
                </a:cubicBezTo>
                <a:cubicBezTo>
                  <a:pt x="7149" y="16520"/>
                  <a:pt x="14375" y="2031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Moon 9"/>
          <p:cNvSpPr/>
          <p:nvPr/>
        </p:nvSpPr>
        <p:spPr>
          <a:xfrm rot="5400000">
            <a:off x="5295600" y="2781000"/>
            <a:ext cx="38124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75" y="1283"/>
                  <a:pt x="7149" y="5080"/>
                  <a:pt x="7149" y="10800"/>
                </a:cubicBezTo>
                <a:cubicBezTo>
                  <a:pt x="7149" y="16520"/>
                  <a:pt x="14375" y="2031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0"/>
          <p:cNvSpPr/>
          <p:nvPr/>
        </p:nvSpPr>
        <p:spPr>
          <a:xfrm>
            <a:off x="6705720" y="2971800"/>
            <a:ext cx="1141200" cy="244440"/>
          </a:xfrm>
          <a:custGeom>
            <a:avLst/>
            <a:gdLst/>
            <a:ahLst/>
            <a:rect l="l" t="t" r="r" b="b"/>
            <a:pathLst>
              <a:path w="1152411" h="176437">
                <a:moveTo>
                  <a:pt x="27739" y="103031"/>
                </a:moveTo>
                <a:cubicBezTo>
                  <a:pt x="21134" y="83217"/>
                  <a:pt x="0" y="45572"/>
                  <a:pt x="27739" y="25758"/>
                </a:cubicBezTo>
                <a:cubicBezTo>
                  <a:pt x="49833" y="9977"/>
                  <a:pt x="105012" y="0"/>
                  <a:pt x="105012" y="0"/>
                </a:cubicBezTo>
                <a:cubicBezTo>
                  <a:pt x="135063" y="8586"/>
                  <a:pt x="167210" y="11781"/>
                  <a:pt x="195164" y="25758"/>
                </a:cubicBezTo>
                <a:cubicBezTo>
                  <a:pt x="254768" y="55560"/>
                  <a:pt x="215181" y="66049"/>
                  <a:pt x="259559" y="103031"/>
                </a:cubicBezTo>
                <a:cubicBezTo>
                  <a:pt x="274308" y="115322"/>
                  <a:pt x="293902" y="120203"/>
                  <a:pt x="311074" y="128789"/>
                </a:cubicBezTo>
                <a:cubicBezTo>
                  <a:pt x="341125" y="120203"/>
                  <a:pt x="372208" y="114638"/>
                  <a:pt x="401226" y="103031"/>
                </a:cubicBezTo>
                <a:cubicBezTo>
                  <a:pt x="415598" y="97282"/>
                  <a:pt x="426737" y="85477"/>
                  <a:pt x="439863" y="77273"/>
                </a:cubicBezTo>
                <a:cubicBezTo>
                  <a:pt x="461090" y="64006"/>
                  <a:pt x="483030" y="51904"/>
                  <a:pt x="504257" y="38637"/>
                </a:cubicBezTo>
                <a:cubicBezTo>
                  <a:pt x="517383" y="30433"/>
                  <a:pt x="528401" y="18314"/>
                  <a:pt x="542894" y="12879"/>
                </a:cubicBezTo>
                <a:cubicBezTo>
                  <a:pt x="563390" y="5193"/>
                  <a:pt x="585823" y="4293"/>
                  <a:pt x="607288" y="0"/>
                </a:cubicBezTo>
                <a:cubicBezTo>
                  <a:pt x="637339" y="12879"/>
                  <a:pt x="671285" y="19021"/>
                  <a:pt x="697440" y="38637"/>
                </a:cubicBezTo>
                <a:cubicBezTo>
                  <a:pt x="708300" y="46782"/>
                  <a:pt x="702789" y="65978"/>
                  <a:pt x="710319" y="77273"/>
                </a:cubicBezTo>
                <a:cubicBezTo>
                  <a:pt x="720422" y="92428"/>
                  <a:pt x="736077" y="103031"/>
                  <a:pt x="748956" y="115910"/>
                </a:cubicBezTo>
                <a:cubicBezTo>
                  <a:pt x="774714" y="111617"/>
                  <a:pt x="804980" y="118209"/>
                  <a:pt x="826229" y="103031"/>
                </a:cubicBezTo>
                <a:cubicBezTo>
                  <a:pt x="840632" y="92743"/>
                  <a:pt x="827777" y="65114"/>
                  <a:pt x="839108" y="51516"/>
                </a:cubicBezTo>
                <a:cubicBezTo>
                  <a:pt x="851399" y="36767"/>
                  <a:pt x="873451" y="34344"/>
                  <a:pt x="890623" y="25758"/>
                </a:cubicBezTo>
                <a:cubicBezTo>
                  <a:pt x="903502" y="30051"/>
                  <a:pt x="917117" y="32566"/>
                  <a:pt x="929260" y="38637"/>
                </a:cubicBezTo>
                <a:cubicBezTo>
                  <a:pt x="1004240" y="76126"/>
                  <a:pt x="942752" y="73390"/>
                  <a:pt x="1045170" y="141668"/>
                </a:cubicBezTo>
                <a:lnTo>
                  <a:pt x="1083806" y="167425"/>
                </a:lnTo>
                <a:cubicBezTo>
                  <a:pt x="1152411" y="153705"/>
                  <a:pt x="1148201" y="176437"/>
                  <a:pt x="1148201" y="14166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Documents and Settings\Shauna J\Local Settings\Temporary Internet Files\Content.IE5\VAXUJ5FW\MCj04046390000[1].wmf"/>
          <p:cNvPicPr/>
          <p:nvPr/>
        </p:nvPicPr>
        <p:blipFill>
          <a:blip r:embed="rId1"/>
          <a:stretch/>
        </p:blipFill>
        <p:spPr>
          <a:xfrm>
            <a:off x="3505320" y="4343400"/>
            <a:ext cx="26953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c090"/>
                </a:solidFill>
                <a:latin typeface="Calibri"/>
              </a:rPr>
              <a:t>On Halloween, I hope t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38080" y="1397160"/>
          <a:ext cx="7696440" cy="2489040"/>
        </p:xfrm>
        <a:graphic>
          <a:graphicData uri="http://schemas.openxmlformats.org/drawingml/2006/table">
            <a:tbl>
              <a:tblPr/>
              <a:tblGrid>
                <a:gridCol w="1924200"/>
                <a:gridCol w="1924200"/>
                <a:gridCol w="1923840"/>
                <a:gridCol w="1924200"/>
              </a:tblGrid>
              <a:tr h="11152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Leaves on S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ick or Tr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 to a Pa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w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4" descr="pumpkin-light-b2.gif"/>
          <p:cNvPicPr/>
          <p:nvPr/>
        </p:nvPicPr>
        <p:blipFill>
          <a:blip r:embed="rId1"/>
          <a:stretch/>
        </p:blipFill>
        <p:spPr>
          <a:xfrm>
            <a:off x="990720" y="5257800"/>
            <a:ext cx="74293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19:43Z</dcterms:created>
  <dc:creator> </dc:creator>
  <dc:description/>
  <dc:language>en-US</dc:language>
  <cp:lastModifiedBy>Granite Schools</cp:lastModifiedBy>
  <dcterms:modified xsi:type="dcterms:W3CDTF">2011-09-28T17:29:08Z</dcterms:modified>
  <cp:revision>14</cp:revision>
  <dc:subject/>
  <dc:title>Slide 1</dc:title>
</cp:coreProperties>
</file>